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KRKONOSSKE_20POHADKY%5B1%5D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1E1-34CC-4580-9EA5-F6DC2299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F46-E6A9-46CA-94BD-4E92F281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5F4-301E-4692-B693-0E30AD83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65E-8C2B-44D3-8535-62A5BA01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3A5-CDD9-4BFA-9A57-E691931D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12E-A4FC-4EA0-8661-7F264A73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05A-D92B-490C-A6F8-18C651F7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DA8-D25E-4D4E-9DD3-6F995545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661-5873-44F4-8DFC-1CB66FC7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A81-2F9F-466C-925F-7099331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1E0-5603-4977-ADE6-2C1BFBC3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193-7301-4F4B-8033-7EC5DDD4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9D2C-8E05-4868-B702-A0CCB4BCD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KRKONOSSKE_20POHADKY%5B1%5D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2.jpeg"/><Relationship Id="rId3" Type="http://schemas.openxmlformats.org/officeDocument/2006/relationships/hyperlink" Target="http://www.strejdamila.estranky.cz/fotoalbum/jak-se-sochal-krakonos-2010/jak-se-socha-krakonos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2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Edwardian Script ITC"/>
              </a:rPr>
              <a:t>Jilemnický Krakonoš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Edwardian Script ITC"/>
              </a:rPr>
              <a:t>23. 1. 20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57440" y="2590920"/>
            <a:ext cx="628560" cy="618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zvuč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86000" y="800280"/>
            <a:ext cx="63720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3"/>
              </a:rPr>
              <a:t>Jak se sochal Krakonoš 20. - 22. ledna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828720" y="5267160"/>
            <a:ext cx="466560" cy="219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6019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Monotype Corsiva"/>
              </a:rPr>
              <a:t>Ukončení prezentace “  Esc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61960" y="800280"/>
            <a:ext cx="622008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71560" y="800280"/>
            <a:ext cx="560088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95480" y="800280"/>
            <a:ext cx="695304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rejda.mila@seznam.cz</dc:creator>
  <dc:description/>
  <dc:language>en-US</dc:language>
  <cp:lastModifiedBy>Karel</cp:lastModifiedBy>
  <dcterms:modified xsi:type="dcterms:W3CDTF">2010-01-25T06:20:32Z</dcterms:modified>
  <cp:revision>43</cp:revision>
  <dc:subject/>
  <dc:title>Krakonoš 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