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KRKONOSSKE_20POHADKY%5B1%5D.wav" ContentType="audio/x-wav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3CB-81C2-4F59-B643-A388C6C4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8D1-35E1-4B94-B03A-5AFC85C3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7DC-164C-47FC-88F3-05D0C453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0BF-1593-4B17-BD2F-A737D5A0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E11-EBEE-4E42-8FA1-6B7EF8C3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097-AC07-4F98-B29C-C67F975A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54D-4511-4820-85FA-A1C0DD73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AB2-F98C-46D3-B445-5AD9C60B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200-6BDA-4E42-9A4C-225A6036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A5E-BFF5-43D7-B3D6-9CE31ED0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01A-4D9D-4F5B-AFAB-6B3DDEAA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A6B-F164-4768-957E-DCF86173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EAD1-704D-4BBF-BDA9-1B9672FE6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audio" Target="../media/KRKONOSSKE_20POHADKY%5B1%5D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3.jpeg"/><Relationship Id="rId4" Type="http://schemas.openxmlformats.org/officeDocument/2006/relationships/hyperlink" Target="http://www.strejdamila.estranky.cz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Jilemnický Krakonoš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7. ledna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067280" y="2962440"/>
            <a:ext cx="733320" cy="100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6760" y="42670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Ozvuč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650960" y="419040"/>
            <a:ext cx="584208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600200" y="3808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Krátké ohlédnu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strejdamila.estranky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619280" y="3682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228600" y="304920"/>
            <a:ext cx="9601200" cy="625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19280" y="38088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loš </cp:lastModifiedBy>
  <dcterms:modified xsi:type="dcterms:W3CDTF">2011-01-11T08:54:16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