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KRKONOSSKE_20POHADKY%5B1%5D.wav" ContentType="audio/x-wav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7331-AFE9-4873-89C0-9EDBBF640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1DD7-C6D3-424D-ACE4-6408B7F7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29BA-A7CB-46B9-9734-7912EEB3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FB64-DA0C-4315-A696-83EBA4B5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5CB8-1BA8-4097-A3A8-0C422115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CB77-70A1-416E-8E1C-2017678E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B8B5-A67A-420C-9DED-92862B7A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93CB-DDE3-4823-95F4-C90C8C89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A00A-015D-4A53-A166-ED41BBE7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C96B-96BC-4EC4-B46B-5E81AC9F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13F1-AF69-4A5E-95D3-09DF0DD6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37B6-FF04-4AE8-A7E5-CCCA590E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BF14-D44C-43C6-BE79-FF4E3A6C4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KRKONOSSKE_20POHADKY%5B1%5D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trejdamila.estranky.cz/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2057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radiční sněhový Krakonoš  opět střeží Masarykovo náměstí v Jilemnici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8. 1 . 201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080" y="421956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zvuč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619280" y="380880"/>
            <a:ext cx="5905440" cy="4445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650960" y="419040"/>
            <a:ext cx="5842080" cy="43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468520" y="457200"/>
            <a:ext cx="3932280" cy="42861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619280" y="380880"/>
            <a:ext cx="5905440" cy="44323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619280" y="380880"/>
            <a:ext cx="5905440" cy="44323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619280" y="380880"/>
            <a:ext cx="5905440" cy="44323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619280" y="304920"/>
            <a:ext cx="5905440" cy="44323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619280" y="609480"/>
            <a:ext cx="5905440" cy="40388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619280" y="380880"/>
            <a:ext cx="5905440" cy="44323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Krátké ohlédnut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771560" y="304920"/>
            <a:ext cx="5619960" cy="4592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out"/>
    <p:sndAc>
      <p:stSnd>
        <p:snd r:embed="rId4" name="KRKONOSSKE_20POHADKY%5B1%5D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619280" y="368280"/>
            <a:ext cx="5905440" cy="44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619280" y="368280"/>
            <a:ext cx="5905440" cy="44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619280" y="368280"/>
            <a:ext cx="5905440" cy="44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9999"/>
                </a:solidFill>
                <a:uFillTx/>
                <a:latin typeface="Book Antiqua"/>
                <a:hlinkClick r:id="rId3"/>
              </a:rPr>
              <a:t>Jak se sochal Krakono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619280" y="380880"/>
            <a:ext cx="5905440" cy="4432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Book Antiqua"/>
              </a:rPr>
              <a:t>Prezentace se ukončuje klávesou E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619280" y="304920"/>
            <a:ext cx="5905440" cy="4572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619280" y="368280"/>
            <a:ext cx="5905440" cy="44323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619280" y="533520"/>
            <a:ext cx="5905440" cy="4038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619280" y="380880"/>
            <a:ext cx="5905440" cy="44960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619280" y="380880"/>
            <a:ext cx="5905440" cy="44323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619280" y="380880"/>
            <a:ext cx="5905440" cy="4432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619280" y="380880"/>
            <a:ext cx="5905440" cy="443232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rejda.mila@seznam.cz</dc:creator>
  <dc:description/>
  <dc:language>en-US</dc:language>
  <cp:lastModifiedBy>Miloš</cp:lastModifiedBy>
  <dcterms:modified xsi:type="dcterms:W3CDTF">2012-01-30T14:44:23Z</dcterms:modified>
  <cp:revision>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