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KRKONOSSKE_20POHADKY%5B1%5D.wav" ContentType="audio/x-wav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DB3-75B6-4684-9D71-6EBFE805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B12-43F9-4BD0-AE51-374A205A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065-6EE5-4E0B-9FF7-9B2884C4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BEC9-A32E-4986-A234-30780A3B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D2E-D1A2-4A6E-894D-F80AD86D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AC6F-78E1-47B5-A042-74C61F16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292-E190-43B8-B997-DCDA0F77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CEE-4666-4368-874C-D0B54C65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097-8CE2-4965-99F0-8C30D959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2A8C-9F3B-490C-9421-461E7A80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B48-CBF6-4CB0-A4EE-0D0C2DCA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262-3493-4B51-8EEB-236F5D85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053F-CB8A-4507-89E0-17C8E775D17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KRKONOSSKE_20POHADKY%5B1%5D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45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lemnický Krakonoš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13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rakono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kdo by ho neznal! Vládce našich hor se po dvou letech opět vrátil n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ilemnick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ámě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zvuč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6286680" cy="4711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  <p:sndAc>
      <p:stSnd>
        <p:snd r:embed="rId3" name="KRKONOSSKE_20POHADKY%5B1%5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28840" y="549360"/>
            <a:ext cx="6286320" cy="4711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9525240" cy="762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76360" y="476280"/>
            <a:ext cx="6286680" cy="4711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9525240" cy="7620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28840" y="549360"/>
            <a:ext cx="6286320" cy="4711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28840" y="517680"/>
            <a:ext cx="6286320" cy="4711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9525240" cy="762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28840" y="517680"/>
            <a:ext cx="6286320" cy="4711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9525240" cy="7620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428840" y="476280"/>
            <a:ext cx="6286320" cy="4711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9525240" cy="76201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rátké ohlednu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6159600" cy="4686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92200" y="549360"/>
            <a:ext cx="6159600" cy="4686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492200" y="549360"/>
            <a:ext cx="6159600" cy="4686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9525240" cy="7620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86680" cy="4711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92200" y="549360"/>
            <a:ext cx="6159600" cy="4686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28840" y="476280"/>
            <a:ext cx="6286320" cy="4749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58920" y="5877000"/>
            <a:ext cx="6400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ezentace se ukončuje klávesou E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6286680" cy="474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9525240" cy="7620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86680" cy="4711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286680" cy="4711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28840" y="476280"/>
            <a:ext cx="6286320" cy="4711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952524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28840" y="517680"/>
            <a:ext cx="6286320" cy="4711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9525240" cy="7620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28840" y="517680"/>
            <a:ext cx="6286320" cy="4711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9525240" cy="762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28840" y="476280"/>
            <a:ext cx="6286320" cy="4711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28840" y="549360"/>
            <a:ext cx="6286320" cy="4711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4T08:03:07Z</dcterms:created>
  <dc:creator>Miloš</dc:creator>
  <dc:description/>
  <dc:language>en-US</dc:language>
  <cp:lastModifiedBy>Miloš</cp:lastModifiedBy>
  <dcterms:modified xsi:type="dcterms:W3CDTF">2017-01-13T10:40:30Z</dcterms:modified>
  <cp:revision>97</cp:revision>
  <dc:subject/>
  <dc:title>Snímek 1</dc:title>
</cp:coreProperties>
</file>