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KRKONOSSKE_20POHADKY%5B1%5D.wav" ContentType="audio/x-wav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C59-D0B8-40A8-872A-AEBE95CC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B68-EF42-4991-89BE-325A1AC6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664-D484-4763-9B56-7CEFA9B2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878-55DE-48A2-84F0-7ACFF09A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1E1-9E04-41FD-8176-8C52830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ABB-61CC-4D2D-A36F-AC8A43D1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D12-27BC-43B5-A7A0-98EE0013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089-C996-4BCF-AB9A-B21E6F2B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A12-61A6-4A17-8783-DFFB0CD6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063-9BC0-46A4-8C43-CE63F79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DD5-0DFC-4076-BBD0-B669B92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9BE-8C2B-44C3-9585-78CCFD0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1AF-5D9D-4E6F-9A91-951668F8CF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KRKONOSSKE_20POHADKY%5B1%5D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45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lemnický Krakonoš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akono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kdo by ho neznal! Vládce našich hor opět střeží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lemnick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ámě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zvuč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  <p:sndAc>
      <p:stSnd>
        <p:snd r:embed="rId3" name="KRKONOSSKE_20POHADKY%5B1%5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átké ohled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92200" y="5349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8840" y="476280"/>
            <a:ext cx="628632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52488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28668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58920" y="587700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ezentace se ukončuje klávesou 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03280" y="479520"/>
            <a:ext cx="6286680" cy="474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9525240" cy="762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90440" y="-380880"/>
            <a:ext cx="9524880" cy="761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92200" y="54936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08:03:07Z</dcterms:created>
  <dc:creator>Miloš</dc:creator>
  <dc:description/>
  <dc:language>en-US</dc:language>
  <cp:lastModifiedBy>Miloš</cp:lastModifiedBy>
  <dcterms:modified xsi:type="dcterms:W3CDTF">2018-02-06T10:42:15Z</dcterms:modified>
  <cp:revision>118</cp:revision>
  <dc:subject/>
  <dc:title>Snímek 1</dc:title>
</cp:coreProperties>
</file>